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D42-DC1D-4F1C-9755-4D3C8FD3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256-519A-48A2-9AA6-CDD2AAB6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9EE-F889-4217-8302-B5CDBB8A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ABC-9EEB-4718-B6F2-9BE026BD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1843-6800-47D5-A6CC-03B10C6B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A1D0-1D2F-426D-8F2F-E860ABE6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B59A-05BF-4594-86A5-FB2BFA5A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7AB7-5A76-45BA-A38B-F29457CF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0F23-3579-4110-99BF-97E461CE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93F0-4E04-4DB3-9E03-1A690F4D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58CC-E9A9-4526-ACC7-E1EB1A0B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F3B-A643-48E6-8590-8EC3C1A4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A2C1-F088-4EF7-ACE7-5EBBF32B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3DC8-4408-428B-8749-21C3D81D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F2E5-1509-4942-9F86-FB7E9D22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C7A-00E2-49BC-B779-4365935D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2167-7512-4449-A1A5-FE3BDC66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2C4-D31C-4FF5-86BB-53CCEECB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37E-3F0F-43DF-B4E1-9A1CE9D6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81F-6781-4059-989D-CEC76CA4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909-A726-4096-BBD7-A51BD391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DF9-A778-46DF-9D71-E405DAB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FA7-3F92-4C27-AE12-5CAF0AFF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244-342E-43A9-890E-9339C445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DDB6-3AF5-4E70-94F0-63D91703E9B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AE68-A211-4509-B7A2-24C00367DE6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Ethernet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e 2,94 Mbps a 1000 Mbps en 25 añ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Rogelio Montaña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rogelio.montanana@uv.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Universidad de Valenci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8520" y="3117960"/>
          <a:ext cx="7620120" cy="298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117960"/>
                    <a:ext cx="762012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ormato DIX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CP/IP, DECNET Fase IV, LAT (Local Area Transport), IP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ormato 802.3/LLC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ppletalk Fase 2, NetBIOS, IP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1997 el grupo de trabajo 802.3x (Control de flujo para Ethernet Full Duplex) aprueba campo tipo/longitu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La asignación de números de tipo pasa de Xerox a IEEE (ver p. ej. RFC1700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medios físic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sólo ‘thickwire’ (10BASE5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2: aparece ‘thinwire’ (RG58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se estandariza 10BASE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primeros productos en fibr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9: se estandariza FOIRL (Fiber Optic Inter Repeater Link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3: se estandariza 10BASE-F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medios físicos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AT&amp;T pierde monopolio por juic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Ethernet sobre cable UTP (Synoptic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Sist. de cableado (DEC, IBM, AT&amp;T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7: se estandariza StarLAN (1BASE5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0: se estandariza 10BASE-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1: primer estándar de cableado estructurado: EIA/TIA 568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puentes/conmutador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Primeros puentes comerciales (DEC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0: Estándar 802.1D (puentes transp.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Primeros conmutadores (Kalpan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3: Productos Full Dúplex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7: Estándar 802.3x (control de flujo FD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7: Draft 802.1Q (VLANs) y 802.1p (prioridad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Fast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8: Van Jacobson obtiene 8 Mbps TCP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Grand Junction inventa F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IEEE crea gurpo estudio alta velocidad Dos propuest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thernet  x  10 (CSMA/CD):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Nuevo protocolo MAC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5: Estándar 802.3u (FE). Nivel físico basado en FDDI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800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100VG-AnyLAN (802.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ast Eth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Gigabit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Repite experiencia de FE. Equipo parecid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Oct. 1995: Se crea grupo estudio G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3/1997: se separa 1000B-T del resto de G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29/6/1998: Estándar 802.3z (GE) Nivel físico basado en Fiber Channel 800 Mb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3/1999: Previsible aprobación de 802.3ab (1000BASE-T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cables cobre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7/91: se aprueba UTP cat.  3 y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8/91: se aprueba UTP cat.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tegoría 5 en revisión: C5 Enhanced (C5E) en TIA/EIA, actualización C5 en ISO/IEC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e calcula que 10% de C5 instalado no soporta 100/1000 Mbps (conector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t. 6 y 7 en desarrollo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cables cobre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01800" y="2406600"/>
          <a:ext cx="8402400" cy="402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406600"/>
                    <a:ext cx="84024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Sumar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Nivel físic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ncionamiento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tur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cod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70080" y="2208240"/>
          <a:ext cx="7475400" cy="458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2208240"/>
                    <a:ext cx="74754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ibra óptica EN y F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: LED 1ª ventana, 2km (850 nm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FE : LED 2ª vent., 2km (1310 nm) (de FDDI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y FE: alcance limitado por aten. (dB/Km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iferente longitud de onda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 autonegociació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z invisible en FE (infrarrojo lejano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ibra óptica G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áser 1ª y 2ª venta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1ª vent. (MM) bajo costo (VCSEL) corto alcance(275-550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2ª: vent, (MM y SM) mayor costo (3x), mayor alcance (550m-5k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áser VCSEL (Vertical Cavity Surface Emitting Laser) más barato que LEDs 2ª ventana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 (GE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GE MM alcance limitado por dispersión (inverso ancho de banda modal, MHz*km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ncho de banda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en 2ª que en 1ª ven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en 50/125 que en 62,5/125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table diferencia según calidad de fibr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o todas las fibras son igual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valores estándar superados por fabrican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82520" y="2165400"/>
          <a:ext cx="738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165400"/>
                    <a:ext cx="738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Fibra 50/125 mejor que 62,5/125 para GE, pero peor para EN y FE (equipos menos preparados). Considerar base instalada y us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uevo estándar 100BASE-SX (VCSEL) a finales 1998; menor costo que 100BASE-FX, permite extender fibra hasta el puesto de trabajo (300m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topologí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y FE: Fundamental no superar 512 bits de retardo máximo (colisiones tardí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GE: 4096 bits de retardo máximo (trama ampliada a 512 bytes con ‘extensión de portadora’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iámetro max: EN 4 Km , FE 412 m, GE 330 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topologí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os sistemas de verificació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odelo 1: ‘menu del día’ (reglas genérica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odelo 2: ‘a la carta’ (cálculo detallado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la mayoría de los casos basta el modelo 1. Para el modelo 2 hace falta sumar el retardo de cada componente (repetidor, cable. etc.) tomando valores estándar o del fabricant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Full Dúple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ll Duplex: doble capacidad, no CSMA/C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olo posible si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Dos estaciones (p. ej. host-switch, sw-sw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edio FD (p. ej. 100BASE-T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mbos equipos/transceivers capa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in limitación de distancia por colision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j.: GE hasta 110 Km con SM (Nbase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ull Dúple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uprime MAC, por tanto mas sencillo de implementar (mas barato) que H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Modo normal de funcionamiento de GE (evita problema de distanci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: Menor ventaja de lo que parece (generalmente solo útil en servidores y conmutadores)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Precursor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0:  Alohanet en Hawaii (Abramson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Red broadcast  en estrella (radioenlac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os canales UHF de 100 KHz / 9,6 Kbp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Canal descendente un solo emiso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Canal ascendente compartido 3 estaciones; Aloha puro, mas tarde Aloha ranurado. Normalmente más eficiente que MDF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fiabilida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egún 802.3 BER (Bit Error Rate) &lt;10</a:t>
            </a:r>
            <a:r>
              <a:rPr b="0" lang="es-ES" sz="3200" spc="-1" strike="noStrike" baseline="30000">
                <a:solidFill>
                  <a:srgbClr val="ffffff"/>
                </a:solidFill>
                <a:latin typeface="Impact"/>
              </a:rPr>
              <a:t>-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Una buena instalación: BER &lt;  10</a:t>
            </a:r>
            <a:r>
              <a:rPr b="0" lang="es-ES" sz="3200" spc="-1" strike="noStrike" baseline="30000">
                <a:solidFill>
                  <a:srgbClr val="ffffff"/>
                </a:solidFill>
                <a:latin typeface="Impact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 10 Mbps menos de una trama errónea/dí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rrores CRC normalmente despreciables. Por esto Ethernet es CLNS (LLC tipo 1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Impact"/>
              </a:rPr>
              <a:t>Pero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: si hay errores/problemas el rendimiento decae con rapidez (ver RMON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aracterización de tráfic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1: 100% pequeño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elnet con eco remoto, VoIP (100-200 byte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2: 50% pequeños / 50% Grand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TP, HTTP (ACK del TCP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3: 99% Grand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lujos UDP (video MPEG/H.263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Normalmente mezcla de varios tip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aquete promedio </a:t>
            </a:r>
            <a:r>
              <a:rPr b="1" lang="es-ES" sz="3200" spc="-1" strike="noStrike">
                <a:solidFill>
                  <a:srgbClr val="ffffff"/>
                </a:solidFill>
                <a:latin typeface="Impact"/>
              </a:rPr>
              <a:t>534 bytes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vento normal en CSMA/CD. Conviene minimizarlas ya que reducen rendimiento 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i Poisson y todas las tramas 64 bytes Ethernet = Aloha ranurado -&gt; 38% max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No todas las tramas tienen 64 Bytes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ráfico LAN no es Poiss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Como reducirl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Aumentar tamaño de trama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: con 64 bytes riesgo de colisión todo el tiempo, con 1518 solo el 4%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Reducir número de estacione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; menos estaciones menos cao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Minimizar distancias entre servidore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; si la ‘distancia’ es 256 bits el riesgo solo esta en los primeros 32 by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 igual topología colisiones EN &lt; FE &lt;&lt; G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jemplo: dos estaciones conectadas a un mismo hub con 100 m de cable cada u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N: 25 bytes (4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E: 39 bytes (7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GE: 457 bytes (86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¿Cuando es excesivo el número de colisiones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i todas las tramas son de 64 bytes, hay muchos emisores y todos estan a la distancia máxima es normal que haya  muchas colisiones (hasta un 30- 50%) cuando el tráfico es elevad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i todas las tramas son de 1500 bytes no deberían superar el 5% del tiempo.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parto equitativo en Ethernet</a:t>
            </a:r>
            <a:br>
              <a:rPr sz="4400"/>
            </a:br>
            <a:r>
              <a:rPr b="0" lang="es-ES" sz="3600" spc="-1" strike="noStrike">
                <a:solidFill>
                  <a:srgbClr val="ccffff"/>
                </a:solidFill>
                <a:latin typeface="Impact"/>
              </a:rPr>
              <a:t>(o mas bien reparto no equitativo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roblemas principal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misores de tramas grandes consiguen mas proporción del ancho de banda (solo compiten en los primeros 64 bytes)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Impact"/>
              </a:rPr>
              <a:t>Efecto captura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: emisores rápidos capturan el canal durante mas tiempo que los lentos. Consecuencia del retroceso exponencial binario (BEB)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Efecto captur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mpensable en tiempos de Metcalfe (máquinas demasiado lent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nsiderado un ‘bug’ de diseño del retroceso exponencial binar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lternativa: BLAM (Binary Logarithmic Arbitration Method) en estudio por 802.3w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hip de IBM con BLAM integrad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¿Cuando debo aumentar la capacidad de mi Ethernet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Hay que deducirlo del tráfico, no de las colision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edir tráfico en puntos clave (p. ej. RMON); tomar valores cada 15 minutos y calcular promedios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Conviene aumentar la red si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50% durante 15 minutos, 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20-30% durante una hora, 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10-20% durante 8 hora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Un 100% de ocupación durante un minuto no justifica un aumento de capacidad (salvo si hay tráfico en tiempo real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Historia: Aloha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739152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0" y="2743200"/>
            <a:ext cx="19051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172200" y="4038120"/>
            <a:ext cx="1752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581280"/>
            <a:ext cx="1905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ntes de comprar hardware estudiar posibles optimizacione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Cambiar la topología para distribuir tráfico de forma mas homogéne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Ubicar equipos donde mas se aproveche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tentar optimizar para la situación crítica (la hora punt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o FE compartida es una vía a extinguir, solo interesante hoy en redes pequeñ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Ventaj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Rendimient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Distanc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fecto captur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sto de red conmutada cada vez mas próximo al de red compartid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.: precio puertos (Kpts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82520" y="2165400"/>
          <a:ext cx="738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165400"/>
                    <a:ext cx="738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os emisores en fibra FE y GE seguirán siendo mas caros que en cobre (x2), aun con el uso de VCS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as alternativas (ATM,...) parecen cada vez menos atractiva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costo, mayor compleji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enor fiabilidad, menor rendimiento (frente a FE FD o GE FD), menor escalabili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backbone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ull Dúple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FE FD (802.3ad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GE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servidores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ull Dúple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FE FD (802.3ad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 (buffered repeater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el puesto de trabajo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N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 (buffered repeater) cuando 1000BASE-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i="1" lang="es-ES_tradnl" sz="3200" spc="-1" strike="noStrike">
                <a:solidFill>
                  <a:srgbClr val="ffffff"/>
                </a:solidFill>
                <a:latin typeface="Impact"/>
              </a:rPr>
              <a:t>La predicción es una tarea difícil, especialmente cuando se trata del futuro”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Niels Boh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QoS en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esarrollos (draft) en 802.1p (y 802.1Q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squema de prioridades como Token Ring; mas bien CoS que Qo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Quizá solo útil en redes conmutadas. Requiere cambios en software y NIC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ecesidad de acompañar políticas de uso (sistema de contabilidad/facturación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udosa utilid. en LAN (sobredimensionar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10 Gbps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esarrollos ya en march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ivel físico basado en OC-192 (9,95 Gbp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istema de codificación ¿quizá 8B/10B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tención de implementar también en cobre (¿UTP 25 pares?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¿Quizá solo FD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osible alternativa a ATM y SDH en WAN (menos overhead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Rendimiento de Aloh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uponiendo distribución de Poiss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loha puro: max. 18,4% al 50% de utilización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A 10 Mbps:  1,84 utiles + 3,16 colision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loha ranurado:  36,8% al 100% de utilizació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A 10 Mbps: 3,68 utiles + 6,32 colision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 el tráfico es auto-similar (fractal), no Poisson, no aleatorio -&gt; mas rendimiento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loha ranurado usado en GSM y satéli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Dentro de 25 años (2023)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¿ TE (Terabit Ethernet) 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roblem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atenc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Buffers / control de fluj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Tamaño de trama &gt;1500 (¿como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tación: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1000000BASE-X, o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1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Impact"/>
              </a:rPr>
              <a:t>6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BASE-X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thernet experiment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0: Robert Metcalfe (MIT) empieza tesis en Harvard(optimización Aloh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2: Metcalfe llega a Xerox PARC; se le encarga diseñar la red del laborator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22/5/1973: Ethernet experimental (Metcalfe y David Boggs): 2,94 Mbps, 1,6 Km, direcc. 8 bits, CRC 16 bits, PUP, predecesor XN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6: Metcalfe y Boggs publican artícul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alianza DI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6: Nueva división para PCs y EN  (X-wire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rquitectura distribuida, opuesta a SN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9: Consorcio DEC-Intel-Xerox: filosofía abier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Vuelta al nombre Ethernet y paso a 10Mb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DIX publica EN v 1.0  (v 2.0 en 1982)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creación del proyecto IEEE 80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IX intenta ‘imponer’ EN a 80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res propuestas, tres subcomité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3: CSMA/CD (DIX)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4: Token Bus (General Motor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5: Token Ring (IB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3: 802.3 aprueba CSMA/CD con una ‘pequeña’ modificación respecto a EN DIX: Campo </a:t>
            </a:r>
            <a:r>
              <a:rPr b="0" i="1" lang="es-ES" sz="3200" spc="-1" strike="noStrike">
                <a:solidFill>
                  <a:srgbClr val="ffffff"/>
                </a:solidFill>
                <a:latin typeface="Impact"/>
              </a:rPr>
              <a:t>tipo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 reemplazado por </a:t>
            </a:r>
            <a:r>
              <a:rPr b="0" i="1" lang="es-ES" sz="3200" spc="-1" strike="noStrike">
                <a:solidFill>
                  <a:srgbClr val="ffffff"/>
                </a:solidFill>
                <a:latin typeface="Impact"/>
              </a:rPr>
              <a:t>longitu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Xerox desplaza campo tipo (&gt;1536) para que pueda coexisitir EN DIX con 802.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802.3 tipo especificado en cabecera LLC (802.2) usando 4 campos / 8 by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0T17:53:50Z</dcterms:created>
  <dc:creator>Rogelio Montañana Perez</dc:creator>
  <dc:description/>
  <dc:language>en-US</dc:language>
  <cp:lastModifiedBy>Servicio de Informática</cp:lastModifiedBy>
  <dcterms:modified xsi:type="dcterms:W3CDTF">1998-11-26T14:44:46Z</dcterms:modified>
  <cp:revision>30</cp:revision>
  <dc:subject/>
  <dc:title>Ethernet:</dc:title>
</cp:coreProperties>
</file>